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10.jpeg" ContentType="image/jpeg"/>
  <Override PartName="/ppt/media/image5.png" ContentType="image/pn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2.jpeg" ContentType="image/jpe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2DB6A-EAF9-4BFE-84CF-68E84A9C0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89C04-AEE3-416C-BD36-6CA8860D0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AB9209-3F80-4595-A800-C63AD5C14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D9E674-C1B0-451E-920F-652192D6E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7E4F5F-BE47-4B6D-B112-1E0C208F0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CD5EC6-E703-4844-BDAD-005B224A7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75B1E6-C32A-4E1C-AE52-6C650AEB9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27CDDA-706D-4C64-9A9E-4545FB625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07F5A0-7842-4EEE-83B2-5EEE419BF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D02279-DB18-4DD2-8ED1-6CE5D565B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82FA2E-30E9-4BEC-B064-67EBE7B11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D82BC2-F6C3-4224-A18D-C250C4C1E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1E546-479E-4EF2-A9CC-C839C215D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D57106-ADB7-4322-8099-00866D060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E35E30-F62A-4932-9615-68FF373EE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B8FBC4-2966-43D9-A79B-5B4B52D64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3115A9-C32C-47E2-BFD8-CBBB8B99A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27FFFC-FA9C-4DA4-A139-D0C7A086C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953285-769C-4E83-8A9D-5CFCF4113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982349-36DE-424B-B986-9326453ED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BA3F8A-B84D-4790-A7CF-B7320AEB0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7F2740-CFE3-47D4-B7EF-F56E7AE32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86BE9E-4588-472A-8A9F-C9E92B1B8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BBA55-2065-475B-9C6E-F3567B11A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5B1A05-7B19-4B39-B81B-1FDBD4A1F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6A50F4-D83E-4379-8BE0-D5B06F0DE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514EA0-5B68-4F3A-A0BC-8DBB6868B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5834AE-5759-4A6E-84AA-8A7E6A549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B95189-8161-4967-ADB8-B5355C424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0A74F8-A7B3-4FA5-9A4D-23A13292E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649232-720E-43B9-85E2-71A5DDCEF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1F1A43-FF0E-45CB-A7AB-01E947E3B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B6C8F0-E65F-4237-BF80-A493F3413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5703FB-CD7C-4867-BDBC-E1988F975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15EA0-5A60-409B-9FAF-C0F25A8D7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D1F6E7-F066-4529-A5C6-E1A1D1A19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FC4D14-8051-4B1A-8904-771C65FAF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789230-6363-4E7B-B164-9680C69D4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D829F6-6D3B-4F1A-ABB1-7842BB868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C05292-2E2C-4BAA-A844-3D907D734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22BE66-C700-4087-A81E-05AC03BEE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1CC933-FF4A-4D79-8A71-F47E305C7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A60475-9936-46DC-99D5-21CC1872D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E376CF-12DC-4178-A238-27D585ABC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81B156-F3AE-4CFB-9BB1-F82452981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199A9-79C7-4F42-AA4A-43ABAC77B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4EB9F5-9983-4A69-9548-FE41FCC4B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BAB433-2D52-4C12-A67F-039B35CD4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FCDA14-8E04-4785-8DBD-9EA37B91B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18C19B-8067-4DE6-BCE3-0752246B6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5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6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896290-22D1-4B2E-BEA2-DB2D5A01C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2619504-432F-4A96-9C91-0D31CD8B9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4E59D36-774E-48C0-B71D-6A8B9806F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4E49EDF-C98D-47FC-83E3-5D5448A29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9F515E0-6CD5-4106-A03F-3A7738F86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A41C659-6BED-4A7D-A09A-0F7964EBB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AE234-A899-4AA1-8629-E2CCB450C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27EC446-25CF-4609-9F02-B63E2E7A1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86CC8E4-05A1-437A-ABDF-DE1E52DAA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E6BF6E0-928D-4DF6-BBE5-5F213EA07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30AE3CD-99D9-4722-969B-5A419D519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D1E609A-6356-4387-A394-58DA646F6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05BFE6B-65E8-4859-A7DD-387FD32CC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4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5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6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ED05315-27F2-4C1B-A158-826BE36D8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9498D50-53EB-4B00-ABEF-8E73619BA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4CD47E6-2D42-43DE-A876-0940BACD6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1F915D5-63A7-4A50-9240-3546FDDE8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94565-864E-4E19-9B33-10110A896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BB9CBF9-F57F-4645-B92D-1556B901D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4D628CC-CF42-47E6-A442-8823EDEF9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E49AEDE-0BD2-40A2-8631-0AE5B2B5B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0989CFF-0F7E-4F61-92D9-9E4C8EDBB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D86C779-873D-46BF-B6E3-C3BE6F721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584BE85-BB8D-438C-B1B2-77D30008B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52F696F-A620-4912-B4D3-3F8DB3916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9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5C8987E-C7C6-41EE-BC9E-B39B75D20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4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5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6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B8F5BFC-D835-4E1F-B618-D1D2E44C0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2BC3E-2510-45A8-91EB-89B4C867F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239BD-1B63-4D6B-9BAC-A0542B2D0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E97BE-0561-46F5-B2A7-4491542FB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ACAB8-C003-4118-9573-CD351D5AE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6C295-40C1-43ED-A77A-49C392DA1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039EC-34F2-4DDE-A88C-AA2A1A334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DC232-B865-450F-BD15-98C0AEFEF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C73E7-0C3F-4014-82BC-844F56508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E1E73-642F-4D66-BB02-B6FC81D1A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7A023B-FC60-4267-A568-DBE5DEAC0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E51481-5D22-4147-AD6F-C2945C445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97DA17-3BAD-4F8C-A103-BCCD45C7F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58618F-088B-418D-BDA5-63B949B5A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C05CC8-20D8-4E39-A7CA-FB87C01E0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D5167-3B17-4B1E-83B9-737144776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C808A1-991B-4C2A-BD72-CDBEA4CEB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BF5E12-8592-4988-91B4-2F89504D4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E00CE0-E32F-4EF0-8F2B-B2ED6D8DE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FDB4BA-C490-41C8-BA5B-0ECEBFBA5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9A21DB-4731-4C59-A257-8DCB87E3C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67A302-692C-4F5D-A383-A324C46DB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F812D4-733C-467F-8EC4-CAC5BC1EC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FADCBB-03E3-46ED-BCB1-CF9C12894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47D05B-9A42-453F-9FA6-524806F69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5292E6-1B3A-4E06-90A3-315813781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235EE-96AC-45EB-9BA8-AE45CF369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9799D5-6D34-43DA-94E0-C1DD8F028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EAA65E-498E-4846-8216-C6FB2BD62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CB5CE5-C21C-4A6B-8C4D-F49DED8DA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837B63-95B7-4155-B486-1DD048B7C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30FAEE-013C-4E83-94E5-002992119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46F1FA-C121-472A-9585-6FFCA0F3C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6108E6-187F-438D-8159-744B57303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635311-AE7B-4E42-8416-5D92748F3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246BA9-3970-4C33-89A3-E71B07F8F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982F0C-65ED-4CF6-94B2-037942E6C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8C787-B336-4D1A-AC9C-8294917F2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D05767-F3CF-475C-B335-4AE5A8978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9783A2-8D60-46C5-ADBA-3C1274AE0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D0EC01-DE36-4719-AACC-9510B8429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2DCCBE-6666-4B67-91C4-27B81FDB2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B1A477-E013-4810-9E35-19AF7A040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9C47A1-A3F5-484A-865F-9BB6E0192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35AC13-0F42-4AF5-89AC-456FADFDE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01DA8E-EA48-4093-A364-8A04EFE56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F0EFC2-EF5C-4602-BF26-8357BF592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1C3127-CCE7-4613-A29B-E40CC5006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CCCC7-1AF7-4786-AF49-89210C920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05103F-6F32-417E-9FE0-A75B75ADD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76D0D2-B366-4017-B374-F30A51EAB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D0AA2A-06E7-4256-8986-F6EE385FA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792A09-2431-41F8-82EC-43BB4BAAB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2A6CF4-6A81-4163-A699-EC9910EF5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BAB06D-809E-411A-AAFD-154C3EF13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931556-E3E3-4473-B88B-630294C76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B487D9-23B3-4E74-ACE2-8079FC966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DFE811-C59C-44D2-A817-69FF4D5A1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A53D4C-DC83-448E-B3AA-66E607FF5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6213C-E7F6-46B5-875D-0459876E3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2CDE95-AF91-4BF6-A22E-57E923C65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09E92E-66E8-4B3E-80EC-BBA673043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D8AD05-9C94-438F-BA12-FD711E957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A02C44-CE3E-45AC-AB07-E086E9C5E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9CB25E-2C09-42DC-A24B-4582F344A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254835-D4DC-49C1-89DF-8F161D21A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136564-30CD-4D32-9E23-292CB6FAD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6DF3FC-D76C-4075-9907-5CEC6D5D2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E70C2B-06C1-4B53-8B1C-6B67D7392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BBB86E-133D-4833-9F49-76395B58C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79AD9-BB01-457F-9B20-CC93503CD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661579-B851-4248-B626-491C46FD1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3B97C6-3CDF-4A31-B750-E0864B279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6037E1-B0EA-44DA-9595-69364C83E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F8CBA2-28B8-4082-8164-DC7681609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2A9F71-C89E-4A91-98D6-30B07ECB2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13F290-2154-4B4E-9110-3F3C8BCFB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4A4FC3-53CE-425E-924D-212D4C0E2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79640A-EB83-4B67-AEA7-069B8D525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CEA162-CE17-4187-B173-C9B68366F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6106C9-9345-4930-8DDD-073B4FB7E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9AB9F-2259-4DDD-8846-BB9F91794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6B93F0-23A8-4277-9EE2-13720345B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49BEA7-5C64-460F-9120-4F8951924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9AD98A-D06C-4A9F-9E07-56B90EDF3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D60006-E69D-4300-9F41-8296150D3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E0C092-6071-487A-ADA9-C2D8E5C01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8615D5-8611-469C-AF87-0FF1E31C0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3B2C08-7F83-489B-BA2D-BD53CF033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3FB138-4FF7-42F7-95D6-2862ABF42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7AE85B-B481-4F72-84DF-9825CDB21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D973D0-CEE6-4B78-AE9B-1E4EBD8CA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C2E67-847B-4EFA-B5B1-9147100A572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34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435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436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37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38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439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0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ftr" idx="29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sldNum" idx="30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0D9CC-C8E5-4744-B112-1DED38280A45}" type="slidenum">
              <a:rPr b="0" lang="ru-RU" sz="1200" spc="-1" strike="noStrike">
                <a:solidFill>
                  <a:srgbClr val="045c75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84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485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486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7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88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489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90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 type="ftr" idx="3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 type="sldNum" idx="3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3492B-6BB5-4D78-A9EC-7E4FF0D70756}" type="slidenum">
              <a:rPr b="0" lang="ru-RU" sz="1200" spc="-1" strike="noStrike">
                <a:solidFill>
                  <a:srgbClr val="045c75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Snip and Round Single Corner Rectangle 8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Right Triangle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Freeform 9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Freeform 10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 type="ftr" idx="3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 type="sldNum" idx="3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583BE-0CCD-4EE7-BC22-C62F4F161995}" type="slidenum">
              <a:rPr b="0" lang="ru-RU" sz="1200" spc="-1" strike="noStrike">
                <a:solidFill>
                  <a:srgbClr val="045c75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79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80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81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2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83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84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5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 type="ftr" idx="3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5"/>
          <p:cNvSpPr>
            <a:spLocks noGrp="1"/>
          </p:cNvSpPr>
          <p:nvPr>
            <p:ph type="sldNum" idx="3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A7C29-45B6-4388-AB6C-0B6618942228}" type="slidenum">
              <a:rPr b="0" lang="ru-RU" sz="1200" spc="-1" strike="noStrike">
                <a:solidFill>
                  <a:srgbClr val="045c75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29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630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631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32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33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634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35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 type="ftr" idx="4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 type="sldNum" idx="42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C5664-B6E8-4512-8B9C-2A6AA3BDC70F}" type="slidenum">
              <a:rPr b="0" lang="ru-RU" sz="1200" spc="-1" strike="noStrike">
                <a:solidFill>
                  <a:srgbClr val="045c75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87B75-E06E-4D9A-8BBF-CA6AA775EE17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8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49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0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2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3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758F8-73CD-4FCA-9AC4-8129DCF9673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4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35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36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7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38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39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0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F5C57-0CF8-4B04-90F0-1FBC62052F76}" type="slidenum">
              <a:rPr b="0" lang="ru-RU" sz="1200" spc="-1" strike="noStrike">
                <a:solidFill>
                  <a:srgbClr val="d1eaee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4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85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86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7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88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89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0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D47D3-6828-49F7-8776-EEB1F432F990}" type="slidenum">
              <a:rPr b="0" lang="ru-RU" sz="1200" spc="-1" strike="noStrike">
                <a:solidFill>
                  <a:srgbClr val="045c75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34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35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236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7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38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39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0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 type="ftr" idx="17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 type="sldNum" idx="18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4F595-0CE7-46A5-B330-ADEFA59EDFD8}" type="slidenum">
              <a:rPr b="0" lang="ru-RU" sz="1200" spc="-1" strike="noStrike">
                <a:solidFill>
                  <a:srgbClr val="d1eaee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84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85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286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7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88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89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0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ftr" idx="20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sldNum" idx="21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D75BD-DCD3-4705-82C6-D5025A6C375B}" type="slidenum">
              <a:rPr b="0" lang="ru-RU" sz="1200" spc="-1" strike="noStrike">
                <a:solidFill>
                  <a:srgbClr val="045c75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34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335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336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7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38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339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40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 type="ftr" idx="23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 type="sldNum" idx="24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2BBAC-2B6E-49EE-A09F-389535BDE302}" type="slidenum">
              <a:rPr b="0" lang="ru-RU" sz="1200" spc="-1" strike="noStrike">
                <a:solidFill>
                  <a:srgbClr val="045c75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84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385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386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7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88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389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0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6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27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E545C-17C2-40D0-B540-D4E659853A90}" type="slidenum">
              <a:rPr b="0" lang="ru-RU" sz="1200" spc="-1" strike="noStrike">
                <a:solidFill>
                  <a:srgbClr val="045c75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0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754200" y="2349000"/>
            <a:ext cx="7772400" cy="183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a50021"/>
                </a:solidFill>
                <a:latin typeface="Calibri"/>
              </a:rPr>
              <a:t>Организационно-педагогические условия повышения эффективности деятельности школьных спортивных клубов в направлении формирования культуры здоровья обучающихся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Прямоугольник 2"/>
          <p:cNvSpPr/>
          <p:nvPr/>
        </p:nvSpPr>
        <p:spPr>
          <a:xfrm>
            <a:off x="449280" y="4724280"/>
            <a:ext cx="8353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a50021"/>
                </a:solidFill>
                <a:latin typeface="Calibri"/>
                <a:ea typeface="Calibri"/>
              </a:rPr>
              <a:t>Ведущий научный сотрудник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a50021"/>
                </a:solidFill>
                <a:latin typeface="Calibri"/>
                <a:ea typeface="Calibri"/>
              </a:rPr>
              <a:t>отдела научно-методического сопровождения общего образования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a50021"/>
                </a:solidFill>
                <a:latin typeface="Calibri"/>
                <a:ea typeface="Calibri"/>
              </a:rPr>
              <a:t>ГАУ ДПО «Институт развития образования Пермского края», кандидат педагогических наук, доцент Чедов Константин Васильевич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AutoShape 10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AutoShape 12"/>
          <p:cNvSpPr/>
          <p:nvPr/>
        </p:nvSpPr>
        <p:spPr>
          <a:xfrm>
            <a:off x="297000" y="792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AutoShape 14"/>
          <p:cNvSpPr/>
          <p:nvPr/>
        </p:nvSpPr>
        <p:spPr>
          <a:xfrm>
            <a:off x="449280" y="16020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2" name="Picture 5" descr="logo2"/>
          <p:cNvPicPr/>
          <p:nvPr/>
        </p:nvPicPr>
        <p:blipFill>
          <a:blip r:embed="rId1"/>
          <a:stretch/>
        </p:blipFill>
        <p:spPr>
          <a:xfrm>
            <a:off x="395280" y="189000"/>
            <a:ext cx="1874880" cy="1243080"/>
          </a:xfrm>
          <a:prstGeom prst="rect">
            <a:avLst/>
          </a:prstGeom>
          <a:ln w="0">
            <a:noFill/>
          </a:ln>
        </p:spPr>
      </p:pic>
      <p:sp>
        <p:nvSpPr>
          <p:cNvPr id="683" name="Прямоугольник 7"/>
          <p:cNvSpPr/>
          <p:nvPr/>
        </p:nvSpPr>
        <p:spPr>
          <a:xfrm>
            <a:off x="2799000" y="404640"/>
            <a:ext cx="5103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7375e"/>
                </a:solidFill>
                <a:latin typeface="Calibri"/>
              </a:rPr>
              <a:t>Краевой вебинар для учителей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7375e"/>
                </a:solidFill>
                <a:latin typeface="Calibri"/>
              </a:rPr>
              <a:t>физической культур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AutoShape 10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AutoShape 12"/>
          <p:cNvSpPr/>
          <p:nvPr/>
        </p:nvSpPr>
        <p:spPr>
          <a:xfrm>
            <a:off x="297000" y="792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AutoShape 14"/>
          <p:cNvSpPr/>
          <p:nvPr/>
        </p:nvSpPr>
        <p:spPr>
          <a:xfrm>
            <a:off x="449280" y="16020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Прямоугольник 5"/>
          <p:cNvSpPr/>
          <p:nvPr/>
        </p:nvSpPr>
        <p:spPr>
          <a:xfrm>
            <a:off x="1332000" y="369720"/>
            <a:ext cx="68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ервое организационно-п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едагогическ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е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услови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Прямоугольник 6"/>
          <p:cNvSpPr/>
          <p:nvPr/>
        </p:nvSpPr>
        <p:spPr>
          <a:xfrm>
            <a:off x="539640" y="836640"/>
            <a:ext cx="8064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еализаци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я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комплекса мероприятий, направленных на формирование у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школьников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представлений об эталонном здоровьеориентированном поведении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просмотр обучающимися тематических видеоматериалов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разъяснение важности соблюдения двигательного режима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убеждение в значимости для здоровья физической культуры, подтверждающегося примерами выдающихся людей и общественно значимых деятелей прошлого и современности, которых отличает высокий уровень личностной физической культур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AutoShape 10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AutoShape 12"/>
          <p:cNvSpPr/>
          <p:nvPr/>
        </p:nvSpPr>
        <p:spPr>
          <a:xfrm>
            <a:off x="297000" y="792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AutoShape 14"/>
          <p:cNvSpPr/>
          <p:nvPr/>
        </p:nvSpPr>
        <p:spPr>
          <a:xfrm>
            <a:off x="449280" y="16020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Прямоугольник 5"/>
          <p:cNvSpPr/>
          <p:nvPr/>
        </p:nvSpPr>
        <p:spPr>
          <a:xfrm>
            <a:off x="1187280" y="404640"/>
            <a:ext cx="676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торое организационно-педагогическое услов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Прямоугольник 6"/>
          <p:cNvSpPr/>
          <p:nvPr/>
        </p:nvSpPr>
        <p:spPr>
          <a:xfrm>
            <a:off x="539640" y="1052640"/>
            <a:ext cx="806472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оздание тренером-преподавателем из числа занимающихся в учебно-тренировочных группах актива спортсменов, проявляющих склонность к организаторской деятельност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Основной функциональной обязанностью членов актива является организация коллективной творческой деятельности участников спортивного клуба на основе принципа формирования личности через коллектив, который регулирует все виды коллективной деятельности участников клуба: процесс разработки положений о проведении физкультурно-спортивных мероприятий, и распределение ролей, и организацию репетиций перед подготовкой к соревнованиям и показательным выступлениям, а также подготовку и проведение различных других клубных мероприятий. В результате у обучающихся нарабатывается опыт социально-ориентированного поведения, развивается инициативность, личная активность, чувство долга перед товарищами и ответственность за успех коллективного дела.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AutoShape 10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AutoShape 12"/>
          <p:cNvSpPr/>
          <p:nvPr/>
        </p:nvSpPr>
        <p:spPr>
          <a:xfrm>
            <a:off x="297000" y="792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AutoShape 14"/>
          <p:cNvSpPr/>
          <p:nvPr/>
        </p:nvSpPr>
        <p:spPr>
          <a:xfrm>
            <a:off x="449280" y="16020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Прямоугольник 5"/>
          <p:cNvSpPr/>
          <p:nvPr/>
        </p:nvSpPr>
        <p:spPr>
          <a:xfrm>
            <a:off x="971640" y="404640"/>
            <a:ext cx="72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Третье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рганизационно-педагогическое услов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Прямоугольник 6"/>
          <p:cNvSpPr/>
          <p:nvPr/>
        </p:nvSpPr>
        <p:spPr>
          <a:xfrm>
            <a:off x="539640" y="1052640"/>
            <a:ext cx="806472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заимодействие всех субъектов образовательной деятельности: «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обучающийся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школьный учитель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тренер-преподаватель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детский спортивный коллектив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родитель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»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Формы работы для обеспечения необходимой и достаточной осведомленности учителей физической культуры, тренеров-преподавателей, родителей и классных руководителей в вопросах формирования культуры здоровья обучающихся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) информирование о целях и задачах каждого этапа процесса формирования культуры здоровья обучающихся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2) взаимодействие учителей физической культуры и тренеров-преподавателей с родителями и классными руководителями для отслеживания динамики становления здоровья обучающихся и развития у них культуры здоровья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3) групповое и индивидуальное консультирование родителей по вопросам воспитания у обучающихся навыков здорового образа жизни и корректировки при необходимости индивидуального стиля жизни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начительным здоровьесберегающим потенциалом обладает организация различных совместных мероприятий с участием детского спортивного коллектива, школьных учителей, родителе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AutoShape 10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AutoShape 12"/>
          <p:cNvSpPr/>
          <p:nvPr/>
        </p:nvSpPr>
        <p:spPr>
          <a:xfrm>
            <a:off x="297000" y="792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AutoShape 14"/>
          <p:cNvSpPr/>
          <p:nvPr/>
        </p:nvSpPr>
        <p:spPr>
          <a:xfrm>
            <a:off x="449280" y="16020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Прямоугольник 5"/>
          <p:cNvSpPr/>
          <p:nvPr/>
        </p:nvSpPr>
        <p:spPr>
          <a:xfrm>
            <a:off x="1042920" y="404640"/>
            <a:ext cx="720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Четвертое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рганизационно-педагогическое услов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Прямоугольник 6"/>
          <p:cNvSpPr/>
          <p:nvPr/>
        </p:nvSpPr>
        <p:spPr>
          <a:xfrm>
            <a:off x="539640" y="1052640"/>
            <a:ext cx="8064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чет индивидуальных особенностей здоровья обучающихся – участников школьного спортивного клуб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езультаты диагностики позволяют педагогу посредством педагогического сопровождения выстраивать индивидуальную траекторию здоровья каждого обучающегося и осуществлять выбор форм и методов формирования тех компонентов культуры здоровья, которые менее развиты у данного школьник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"/>
          <p:cNvSpPr txBox="1"/>
          <p:nvPr/>
        </p:nvSpPr>
        <p:spPr>
          <a:xfrm>
            <a:off x="323640" y="2565000"/>
            <a:ext cx="817236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76a3"/>
                </a:solidFill>
                <a:latin typeface="Constantia"/>
              </a:rPr>
              <a:t>Чедов Константин Васильевич,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76a3"/>
                </a:solidFill>
                <a:latin typeface="Constantia"/>
              </a:rPr>
              <a:t>ведущий научный сотрудник отдела научно-методического сопровождения общего образования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76a3"/>
                </a:solidFill>
                <a:latin typeface="Constantia"/>
              </a:rPr>
              <a:t>ГАУ ДПО «Институт развития образования Пермского края», кандидат педагогических наук, доцент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6a3"/>
                </a:solidFill>
                <a:latin typeface="Constantia"/>
              </a:rPr>
              <a:t>г. Пермь, ул. Бородинская, 35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76a3"/>
                </a:solidFill>
                <a:latin typeface="Constantia"/>
              </a:rPr>
              <a:t>Тел. 89226498174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76a3"/>
                </a:solidFill>
                <a:latin typeface="Constantia"/>
              </a:rPr>
              <a:t>Адрес электронной почты: </a:t>
            </a:r>
            <a:r>
              <a:rPr b="0" i="1" lang="en-US" sz="2400" spc="-1" strike="noStrike">
                <a:solidFill>
                  <a:srgbClr val="0076a3"/>
                </a:solidFill>
                <a:latin typeface="Constantia"/>
              </a:rPr>
              <a:t>chedovkv@yandex.ru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2916000" y="620280"/>
            <a:ext cx="52419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4617b"/>
                </a:solidFill>
                <a:latin typeface="Calibri"/>
              </a:rPr>
              <a:t>Контактная информация</a:t>
            </a: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743" name="Picture 5" descr="logo2"/>
          <p:cNvPicPr/>
          <p:nvPr/>
        </p:nvPicPr>
        <p:blipFill>
          <a:blip r:embed="rId1"/>
          <a:stretch/>
        </p:blipFill>
        <p:spPr>
          <a:xfrm>
            <a:off x="303120" y="836640"/>
            <a:ext cx="1981440" cy="13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AutoShape 10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AutoShape 12"/>
          <p:cNvSpPr/>
          <p:nvPr/>
        </p:nvSpPr>
        <p:spPr>
          <a:xfrm>
            <a:off x="297000" y="792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AutoShape 14"/>
          <p:cNvSpPr/>
          <p:nvPr/>
        </p:nvSpPr>
        <p:spPr>
          <a:xfrm>
            <a:off x="449280" y="16020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Rectangle 8"/>
          <p:cNvSpPr/>
          <p:nvPr/>
        </p:nvSpPr>
        <p:spPr>
          <a:xfrm>
            <a:off x="905040" y="857160"/>
            <a:ext cx="7705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a50021"/>
                </a:solidFill>
                <a:latin typeface="Calibri"/>
                <a:ea typeface="Calibri"/>
              </a:rPr>
              <a:t>Клуб </a:t>
            </a:r>
            <a:r>
              <a:rPr b="0" lang="ru-RU" sz="3600" spc="-1" strike="noStrike">
                <a:solidFill>
                  <a:srgbClr val="a50021"/>
                </a:solidFill>
                <a:latin typeface="Calibri"/>
                <a:ea typeface="Calibri"/>
              </a:rPr>
              <a:t>– это объединение людей на основе общих интересов и потребностей; форма взаимодействия в среде их жизнедеятельности, обеспечивающая им условия для личностного самовыражения, самоутверждения и личностной самореализации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AutoShape 10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AutoShape 12"/>
          <p:cNvSpPr/>
          <p:nvPr/>
        </p:nvSpPr>
        <p:spPr>
          <a:xfrm>
            <a:off x="297000" y="792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AutoShape 14"/>
          <p:cNvSpPr/>
          <p:nvPr/>
        </p:nvSpPr>
        <p:spPr>
          <a:xfrm>
            <a:off x="449280" y="16020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1" name="Рисунок 6" descr=""/>
          <p:cNvPicPr/>
          <p:nvPr/>
        </p:nvPicPr>
        <p:blipFill>
          <a:blip r:embed="rId1"/>
          <a:srcRect l="28053" t="14352" r="10500" b="7482"/>
          <a:stretch/>
        </p:blipFill>
        <p:spPr>
          <a:xfrm>
            <a:off x="395280" y="476280"/>
            <a:ext cx="835344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AutoShape 10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AutoShape 12"/>
          <p:cNvSpPr/>
          <p:nvPr/>
        </p:nvSpPr>
        <p:spPr>
          <a:xfrm>
            <a:off x="297000" y="792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AutoShape 14"/>
          <p:cNvSpPr/>
          <p:nvPr/>
        </p:nvSpPr>
        <p:spPr>
          <a:xfrm>
            <a:off x="449280" y="16020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5" name="Рисунок 5" descr=""/>
          <p:cNvPicPr/>
          <p:nvPr/>
        </p:nvPicPr>
        <p:blipFill>
          <a:blip r:embed="rId1"/>
          <a:srcRect l="28236" t="20304" r="10844" b="13893"/>
          <a:stretch/>
        </p:blipFill>
        <p:spPr>
          <a:xfrm>
            <a:off x="826920" y="620640"/>
            <a:ext cx="756144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AutoShape 10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AutoShape 12"/>
          <p:cNvSpPr/>
          <p:nvPr/>
        </p:nvSpPr>
        <p:spPr>
          <a:xfrm>
            <a:off x="297000" y="792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AutoShape 14"/>
          <p:cNvSpPr/>
          <p:nvPr/>
        </p:nvSpPr>
        <p:spPr>
          <a:xfrm>
            <a:off x="449280" y="16020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9" name="Рисунок 7" descr=""/>
          <p:cNvPicPr/>
          <p:nvPr/>
        </p:nvPicPr>
        <p:blipFill>
          <a:blip r:embed="rId1"/>
          <a:srcRect l="33189" t="26719" r="15398" b="18320"/>
          <a:stretch/>
        </p:blipFill>
        <p:spPr>
          <a:xfrm>
            <a:off x="1258920" y="404640"/>
            <a:ext cx="6769080" cy="3961080"/>
          </a:xfrm>
          <a:prstGeom prst="rect">
            <a:avLst/>
          </a:prstGeom>
          <a:ln w="0">
            <a:noFill/>
          </a:ln>
        </p:spPr>
      </p:pic>
      <p:sp>
        <p:nvSpPr>
          <p:cNvPr id="700" name="Прямоугольник 8"/>
          <p:cNvSpPr/>
          <p:nvPr/>
        </p:nvSpPr>
        <p:spPr>
          <a:xfrm>
            <a:off x="611280" y="4581360"/>
            <a:ext cx="7921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рограмма соответствует целям и задачам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федерального проекта «Спорт-норма жизни» национального проекта «Демография»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федерального проекта «Успех каждого ребенка» национального проекта «Образование»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тратегии развития физической культуры и спорта в РФ до 2030 года и др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AutoShape 10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AutoShape 12"/>
          <p:cNvSpPr/>
          <p:nvPr/>
        </p:nvSpPr>
        <p:spPr>
          <a:xfrm>
            <a:off x="297000" y="792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AutoShape 14"/>
          <p:cNvSpPr/>
          <p:nvPr/>
        </p:nvSpPr>
        <p:spPr>
          <a:xfrm>
            <a:off x="449280" y="16020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Прямоугольник 8"/>
          <p:cNvSpPr/>
          <p:nvPr/>
        </p:nvSpPr>
        <p:spPr>
          <a:xfrm>
            <a:off x="684360" y="4221000"/>
            <a:ext cx="7920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7375e"/>
                </a:solidFill>
                <a:latin typeface="Calibri"/>
              </a:rPr>
              <a:t>В характеристике современного состояния развития школьного спорта отмечено, что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7375e"/>
                </a:solidFill>
                <a:latin typeface="Calibri"/>
              </a:rPr>
              <a:t>- общее количество школ в стране 40,4 тыс., из них 23 тыс. находятся в сельской местности;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7375e"/>
                </a:solidFill>
                <a:latin typeface="Calibri"/>
              </a:rPr>
              <a:t>-  в 14 тыс. школ нуждаются в ремонте спортивного зала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7375e"/>
                </a:solidFill>
                <a:latin typeface="Calibri"/>
              </a:rPr>
              <a:t>- 633 – в перепрофилировании помещений для уроков физкультуры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7375e"/>
                </a:solidFill>
                <a:latin typeface="Calibri"/>
              </a:rPr>
              <a:t>- в 22534 школах отсутствует ШСК (</a:t>
            </a:r>
            <a:r>
              <a:rPr b="0" i="1" lang="ru-RU" sz="1800" spc="-1" strike="noStrike">
                <a:solidFill>
                  <a:srgbClr val="17375e"/>
                </a:solidFill>
                <a:latin typeface="Calibri"/>
              </a:rPr>
              <a:t>школьный спортивный клуб</a:t>
            </a:r>
            <a:r>
              <a:rPr b="0" lang="ru-RU" sz="1800" spc="-1" strike="noStrike">
                <a:solidFill>
                  <a:srgbClr val="17375e"/>
                </a:solidFill>
                <a:latin typeface="Calibri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5" name="Picture 2" descr="dop.pskovedu.ru"/>
          <p:cNvPicPr/>
          <p:nvPr/>
        </p:nvPicPr>
        <p:blipFill>
          <a:blip r:embed="rId1"/>
          <a:stretch/>
        </p:blipFill>
        <p:spPr>
          <a:xfrm>
            <a:off x="1403280" y="260280"/>
            <a:ext cx="583272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AutoShape 10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AutoShape 12"/>
          <p:cNvSpPr/>
          <p:nvPr/>
        </p:nvSpPr>
        <p:spPr>
          <a:xfrm>
            <a:off x="297000" y="792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AutoShape 14"/>
          <p:cNvSpPr/>
          <p:nvPr/>
        </p:nvSpPr>
        <p:spPr>
          <a:xfrm>
            <a:off x="449280" y="16020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9" name="Рисунок 6" descr=""/>
          <p:cNvPicPr/>
          <p:nvPr/>
        </p:nvPicPr>
        <p:blipFill>
          <a:blip r:embed="rId1"/>
          <a:srcRect l="19811" t="15115" r="7835" b="10688"/>
          <a:stretch/>
        </p:blipFill>
        <p:spPr>
          <a:xfrm>
            <a:off x="108000" y="620640"/>
            <a:ext cx="889164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AutoShape 10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AutoShape 12"/>
          <p:cNvSpPr/>
          <p:nvPr/>
        </p:nvSpPr>
        <p:spPr>
          <a:xfrm>
            <a:off x="297000" y="792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AutoShape 14"/>
          <p:cNvSpPr/>
          <p:nvPr/>
        </p:nvSpPr>
        <p:spPr>
          <a:xfrm>
            <a:off x="449280" y="16020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3" name="Picture 2" descr="В России к 2024 году планируют создать спортклубы в каждой школе"/>
          <p:cNvPicPr/>
          <p:nvPr/>
        </p:nvPicPr>
        <p:blipFill>
          <a:blip r:embed="rId1"/>
          <a:stretch/>
        </p:blipFill>
        <p:spPr>
          <a:xfrm>
            <a:off x="1547640" y="115920"/>
            <a:ext cx="6480360" cy="4289400"/>
          </a:xfrm>
          <a:prstGeom prst="rect">
            <a:avLst/>
          </a:prstGeom>
          <a:ln w="0">
            <a:noFill/>
          </a:ln>
        </p:spPr>
      </p:pic>
      <p:pic>
        <p:nvPicPr>
          <p:cNvPr id="714" name="Picture 4" descr="https://avatars.mds.yandex.net/get-zen_doc/4368340/pub_60394c99732f3c7f624342d7_60394cf2732f3c7f6243dd3f/scale_1200"/>
          <p:cNvPicPr/>
          <p:nvPr/>
        </p:nvPicPr>
        <p:blipFill>
          <a:blip r:embed="rId2"/>
          <a:stretch/>
        </p:blipFill>
        <p:spPr>
          <a:xfrm>
            <a:off x="2916360" y="4941720"/>
            <a:ext cx="5095800" cy="1810080"/>
          </a:xfrm>
          <a:prstGeom prst="rect">
            <a:avLst/>
          </a:prstGeom>
          <a:ln w="0">
            <a:noFill/>
          </a:ln>
        </p:spPr>
      </p:pic>
      <p:sp>
        <p:nvSpPr>
          <p:cNvPr id="715" name="Прямоугольник 7"/>
          <p:cNvSpPr/>
          <p:nvPr/>
        </p:nvSpPr>
        <p:spPr>
          <a:xfrm>
            <a:off x="468360" y="4365720"/>
            <a:ext cx="50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аспорте программы в перечне ожидаемых результатов указано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AutoShape 10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AutoShape 12"/>
          <p:cNvSpPr/>
          <p:nvPr/>
        </p:nvSpPr>
        <p:spPr>
          <a:xfrm>
            <a:off x="297000" y="792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AutoShape 14"/>
          <p:cNvSpPr/>
          <p:nvPr/>
        </p:nvSpPr>
        <p:spPr>
          <a:xfrm>
            <a:off x="449280" y="16020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Прямоугольник 5"/>
          <p:cNvSpPr/>
          <p:nvPr/>
        </p:nvSpPr>
        <p:spPr>
          <a:xfrm>
            <a:off x="324000" y="189000"/>
            <a:ext cx="842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рганизационно-п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едагогически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е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услови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я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это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совокупность объективных возможностей содержания, форм, методов и материально-пространственной среды, обеспечивающих решение поставленных образовательных задач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0" name="Picture 3" descr="https://avatars.mds.yandex.net/get-zen_doc/3957194/pub_5fb62222541585566c40d623_5fb62540d60cd1779220f51c/scale_1200"/>
          <p:cNvPicPr/>
          <p:nvPr/>
        </p:nvPicPr>
        <p:blipFill>
          <a:blip r:embed="rId1"/>
          <a:stretch/>
        </p:blipFill>
        <p:spPr>
          <a:xfrm>
            <a:off x="971640" y="1844640"/>
            <a:ext cx="7389720" cy="492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24T16:27:00Z</dcterms:created>
  <dc:creator>Лядова</dc:creator>
  <dc:description/>
  <dc:language>en-US</dc:language>
  <cp:lastModifiedBy>Администратор</cp:lastModifiedBy>
  <dcterms:modified xsi:type="dcterms:W3CDTF">2021-05-27T06:38:16Z</dcterms:modified>
  <cp:revision>126</cp:revision>
  <dc:subject/>
  <dc:title>Достижение и оценка результатов воспитания и обучения здоровому образу жизни  младших школьников  в контексте требований ФГОС НОО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49-10.2.0.6020</vt:lpwstr>
  </property>
</Properties>
</file>